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4930-1C98-472E-B57D-C0AD375D2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62A4-8D9C-4809-B5D9-D8584593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DD3B-5D4C-4807-B8C9-D90E8A83B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9A90-D260-4C02-9C44-615A99EDD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0DC7-AC5E-44A4-9D57-F044DB48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F393-97F8-487A-9777-92F18875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EBC4-96FF-4D95-A9C1-83733A8B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4A65-FA50-4609-AAA9-BE98069C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76EB-EB84-44E5-95DE-89DF18FC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3AF4-A575-4F4C-BD7E-DB26E9C8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6320-9777-41FC-AC21-BE401A66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5BBB-CFBA-45F7-AA22-B9357127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35F1-228E-4CD0-8CE4-B5AFAD159147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Segoe Script"/>
              </a:rPr>
              <a:t>Despartirea 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Segoe Script"/>
              </a:rPr>
              <a:t>SILA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432144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000000"/>
                </a:solidFill>
                <a:latin typeface="Script MT Bold"/>
              </a:rPr>
              <a:t>Daca in viitor nu ar mai exista despartirea in silabe lumea ar desparti cuvintele in silabe cum ar crede ei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64000" y="4076640"/>
            <a:ext cx="3780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0560" y="5157360"/>
            <a:ext cx="709308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Rounded MT Bold"/>
              </a:rPr>
              <a:t>Frincu Maria Ionela si Goldan Andreea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 Rounded MT Bold"/>
              </a:rPr>
              <a:t>cls a VI-a B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 Rounded MT Bold"/>
              </a:rPr>
              <a:t>Scoala cu cls I-VIII N. I. Jilinschi. Verne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3200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9600" spc="-1" strike="noStrike">
                <a:solidFill>
                  <a:srgbClr val="000000"/>
                </a:solidFill>
                <a:latin typeface="Arial Unicode MS"/>
              </a:rPr>
              <a:t>SFARȘI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5267160"/>
            <a:ext cx="2124000" cy="1590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020000" y="0"/>
            <a:ext cx="21240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3141360"/>
            <a:ext cx="8229600" cy="30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99cc00"/>
                </a:solidFill>
                <a:latin typeface="Segoe Script"/>
              </a:rPr>
              <a:t>  </a:t>
            </a:r>
            <a:r>
              <a:rPr b="0" lang="ro-RO" sz="4000" spc="-1" strike="noStrike">
                <a:solidFill>
                  <a:srgbClr val="99cc00"/>
                </a:solidFill>
                <a:latin typeface="Segoe Script"/>
              </a:rPr>
              <a:t>SCOPUL proiectului nostru este de a arata elevilor care sunt regulile de despartire in silab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84360" y="0"/>
            <a:ext cx="38163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omic Sans MS"/>
              </a:rPr>
              <a:t>Despartirea in silabe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371592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Ce se va intampla in viitor                           daca nu ar mai exista                              DESPARTIREA IN SILABE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27280" y="1197000"/>
            <a:ext cx="38894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3357720"/>
            <a:ext cx="8229600" cy="33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000000"/>
                </a:solidFill>
                <a:latin typeface="Edwardian Script ITC"/>
              </a:rPr>
              <a:t>1. O consoana intre doua vocale la despartirea in silabe trece la silaba urmatoar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3927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8360" y="-36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2. Doua consoane intre doua vocale la despartirea in silabe trec prima la silaba dinainte si a doua la silaba urmatoa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Daca in grupul de doua consoane a doua este / sau r si prima este b,c,d,f,g,h,p,t,v, despartirea i nsilabe se face inaintea intregului grup.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59280" y="1844640"/>
            <a:ext cx="29509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Segoe Script"/>
              </a:rPr>
              <a:t>3. Trei sau mai multe consoane intre doua vocale la despartirea in silabe trec prima la silaba dinainte si celelalte la silaba urmato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Segoe Script"/>
              </a:rPr>
              <a:t>    </a:t>
            </a:r>
            <a:r>
              <a:rPr b="0" lang="ro-RO" sz="3200" spc="-1" strike="noStrike">
                <a:solidFill>
                  <a:srgbClr val="000000"/>
                </a:solidFill>
                <a:latin typeface="Segoe Script"/>
              </a:rPr>
              <a:t>In cazul grupurilor de consoane ipt,mpt,ncs,nct,rct,rtf,stm,ndv, despartirea se face dupa a doua consoana din gr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29000" y="2428920"/>
            <a:ext cx="22860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4. Doua vocale in hiat se despart intre ele, facand parte din silabe diferit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Ex: a-</a:t>
            </a:r>
            <a:r>
              <a:rPr b="1" lang="ro-RO" sz="4000" spc="-1" strike="noStrike">
                <a:solidFill>
                  <a:srgbClr val="000000"/>
                </a:solidFill>
                <a:latin typeface="Monotype Corsiva"/>
              </a:rPr>
              <a:t>e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r; a-le-</a:t>
            </a:r>
            <a:r>
              <a:rPr b="1" lang="ro-RO" sz="4000" spc="-1" strike="noStrike">
                <a:solidFill>
                  <a:srgbClr val="000000"/>
                </a:solidFill>
                <a:latin typeface="Monotype Corsiva"/>
              </a:rPr>
              <a:t>e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; po-</a:t>
            </a:r>
            <a:r>
              <a:rPr b="1" lang="ro-RO" sz="4000" spc="-1" strike="noStrike">
                <a:solidFill>
                  <a:srgbClr val="000000"/>
                </a:solidFill>
                <a:latin typeface="Monotype Corsiva"/>
              </a:rPr>
              <a:t>e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-zi-</a:t>
            </a:r>
            <a:r>
              <a:rPr b="1" lang="ro-RO" sz="4000" spc="-1" strike="noStrike">
                <a:solidFill>
                  <a:srgbClr val="000000"/>
                </a:solidFill>
                <a:latin typeface="Monotype Corsiva"/>
              </a:rPr>
              <a:t>e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03280" y="2781360"/>
            <a:ext cx="54738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MV Boli"/>
              </a:rPr>
              <a:t>5. Cuvintele derivate se despart in silabe tinandu-se seama de elamentele lor componente: </a:t>
            </a:r>
            <a:r>
              <a:rPr b="0" lang="ro-RO" sz="3200" spc="-1" strike="noStrike" u="sng">
                <a:solidFill>
                  <a:srgbClr val="000000"/>
                </a:solidFill>
                <a:uFillTx/>
                <a:latin typeface="MV Boli"/>
              </a:rPr>
              <a:t>in</a:t>
            </a:r>
            <a:r>
              <a:rPr b="0" lang="ro-RO" sz="3200" spc="-1" strike="noStrike">
                <a:solidFill>
                  <a:srgbClr val="000000"/>
                </a:solidFill>
                <a:latin typeface="MV Boli"/>
              </a:rPr>
              <a:t>-sta-bil; des-ci-fra-</a:t>
            </a:r>
            <a:r>
              <a:rPr b="0" lang="ro-RO" sz="3200" spc="-1" strike="noStrike" u="sng">
                <a:solidFill>
                  <a:srgbClr val="000000"/>
                </a:solidFill>
                <a:uFillTx/>
                <a:latin typeface="MV Boli"/>
              </a:rPr>
              <a:t>b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MV Boli"/>
              </a:rPr>
              <a:t>    </a:t>
            </a:r>
            <a:r>
              <a:rPr b="0" lang="ro-RO" sz="3200" spc="-1" strike="noStrike">
                <a:solidFill>
                  <a:srgbClr val="000000"/>
                </a:solidFill>
                <a:latin typeface="MV Boli"/>
              </a:rPr>
              <a:t>Unele prefixe sunt formate din doua silabe, fapt care trebuie respectat la despartirea in sila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000000"/>
                </a:solidFill>
                <a:uFillTx/>
                <a:latin typeface="MV Boli"/>
              </a:rPr>
              <a:t>an-ti</a:t>
            </a:r>
            <a:r>
              <a:rPr b="0" lang="ro-RO" sz="3200" spc="-1" strike="noStrike">
                <a:solidFill>
                  <a:srgbClr val="000000"/>
                </a:solidFill>
                <a:latin typeface="MV Boli"/>
              </a:rPr>
              <a:t>-so-ci-al; </a:t>
            </a:r>
            <a:r>
              <a:rPr b="0" lang="ro-RO" sz="3200" spc="-1" strike="noStrike" u="sng">
                <a:solidFill>
                  <a:srgbClr val="000000"/>
                </a:solidFill>
                <a:uFillTx/>
                <a:latin typeface="MV Boli"/>
              </a:rPr>
              <a:t>con-tra</a:t>
            </a:r>
            <a:r>
              <a:rPr b="0" lang="ro-RO" sz="3200" spc="-1" strike="noStrike">
                <a:solidFill>
                  <a:srgbClr val="000000"/>
                </a:solidFill>
                <a:latin typeface="MV Boli"/>
              </a:rPr>
              <a:t>-in-di-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830920" y="3789360"/>
            <a:ext cx="33130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000000"/>
                </a:solidFill>
                <a:latin typeface="Edwardian Script ITC"/>
              </a:rPr>
              <a:t>Cuvantul poate fi 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000000"/>
                </a:solidFill>
                <a:latin typeface="Edwardian Script ITC"/>
              </a:rPr>
              <a:t>-Monosilabic: format dintr-o silaba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000000"/>
                </a:solidFill>
                <a:latin typeface="Edwardian Script ITC"/>
              </a:rPr>
              <a:t>-Plurisilabic: format din doua sau mai multe silab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292720" y="3213000"/>
            <a:ext cx="38512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9:24:03Z</dcterms:created>
  <dc:creator>Adi</dc:creator>
  <dc:description/>
  <dc:language>en-US</dc:language>
  <cp:lastModifiedBy>Adi</cp:lastModifiedBy>
  <dcterms:modified xsi:type="dcterms:W3CDTF">2010-10-12T15:11:44Z</dcterms:modified>
  <cp:revision>5</cp:revision>
  <dc:subject/>
  <dc:title>Despartirea in </dc:title>
</cp:coreProperties>
</file>